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148D-8DB4-4BB8-B018-AE46136699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3A95-AFAA-4337-BD69-902C54A590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5A36-AADB-4F5E-8FF4-76700CCE26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B31-FDDE-4032-95AE-4D0A2DF7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DB8-9A7A-4DF5-8594-414F1C64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4CD-580B-48EA-A5B6-91A0ABA3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9F4A-0032-4FFC-8CFF-7AD79367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E78-A448-4392-8F4B-96898460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7E6-77F0-4316-8492-C2AF37FC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5CB-3436-418F-A204-D1791FB2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2271-CE3F-4432-9E3E-06FC64C2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E07-7E0B-4E88-8A08-0A8C31DF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E2D-B77D-4643-99E7-200F27C5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A67-0A0B-4DB6-8FFE-ACC078FE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67C-DDB6-42A9-BA53-00A930D4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6F71-7448-4490-B19B-7025D265D7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31847" t="31250" r="42900" b="37500"/>
          <a:stretch/>
        </p:blipFill>
        <p:spPr>
          <a:xfrm>
            <a:off x="0" y="1428840"/>
            <a:ext cx="6777000" cy="4714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6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Повторим  изучен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2600640" y="1143000"/>
            <a:ext cx="618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Назовите пары односторонних уг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Назовите пары накрест лежащих уг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Назовите пары соответственных уг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7072200" y="3714840"/>
            <a:ext cx="135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663080" y="578628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 = 75⁰ Найти все уг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0"/>
          <p:cNvSpPr/>
          <p:nvPr/>
        </p:nvSpPr>
        <p:spPr>
          <a:xfrm>
            <a:off x="6041880" y="585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7"/>
          <p:cNvSpPr/>
          <p:nvPr/>
        </p:nvSpPr>
        <p:spPr>
          <a:xfrm>
            <a:off x="214200" y="0"/>
            <a:ext cx="8713800" cy="1739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Теорема: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умм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углов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треугольника равна 180</a:t>
            </a:r>
            <a:r>
              <a:rPr b="1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8"/>
          <p:cNvSpPr/>
          <p:nvPr/>
        </p:nvSpPr>
        <p:spPr>
          <a:xfrm>
            <a:off x="5003640" y="12682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∆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9"/>
          <p:cNvSpPr/>
          <p:nvPr/>
        </p:nvSpPr>
        <p:spPr>
          <a:xfrm>
            <a:off x="5000760" y="2857680"/>
            <a:ext cx="350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8"/>
          <p:cNvSpPr/>
          <p:nvPr/>
        </p:nvSpPr>
        <p:spPr>
          <a:xfrm>
            <a:off x="4938840" y="1857240"/>
            <a:ext cx="42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rcRect l="30502" t="36137" r="46743" b="19921"/>
          <a:stretch/>
        </p:blipFill>
        <p:spPr>
          <a:xfrm>
            <a:off x="214200" y="1785960"/>
            <a:ext cx="4672080" cy="5072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rcRect l="52161" t="50782" r="23134" b="20901"/>
          <a:stretch/>
        </p:blipFill>
        <p:spPr>
          <a:xfrm>
            <a:off x="4599000" y="3500280"/>
            <a:ext cx="45450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0"/>
          <p:cNvSpPr/>
          <p:nvPr/>
        </p:nvSpPr>
        <p:spPr>
          <a:xfrm>
            <a:off x="6041880" y="585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7"/>
          <p:cNvSpPr/>
          <p:nvPr/>
        </p:nvSpPr>
        <p:spPr>
          <a:xfrm>
            <a:off x="214200" y="0"/>
            <a:ext cx="8713800" cy="1739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Теорема: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умм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углов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треугольника равна 180</a:t>
            </a:r>
            <a:r>
              <a:rPr b="1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8"/>
          <p:cNvSpPr/>
          <p:nvPr/>
        </p:nvSpPr>
        <p:spPr>
          <a:xfrm>
            <a:off x="5003640" y="12682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∆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5000760" y="285768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ельство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8"/>
          <p:cNvSpPr/>
          <p:nvPr/>
        </p:nvSpPr>
        <p:spPr>
          <a:xfrm>
            <a:off x="4938840" y="1857240"/>
            <a:ext cx="42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rcRect l="30502" t="36137" r="46743" b="19921"/>
          <a:stretch/>
        </p:blipFill>
        <p:spPr>
          <a:xfrm>
            <a:off x="214200" y="1785960"/>
            <a:ext cx="4672080" cy="5072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rcRect l="52161" t="50782" r="23134" b="19921"/>
          <a:stretch/>
        </p:blipFill>
        <p:spPr>
          <a:xfrm>
            <a:off x="4643280" y="3500280"/>
            <a:ext cx="450072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40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истории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95280" y="1484280"/>
            <a:ext cx="5148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Доказательство теоремы о сумме углов треугольника «Сумма внутренних углов треугольника равна двум прямым» приписывают Пифагору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85480" y="5643720"/>
            <a:ext cx="3429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580 – 500 г.г. до н. э</a:t>
            </a:r>
            <a:r>
              <a:rPr b="1" i="1" lang="ru-RU" sz="3100" spc="-1" strike="noStrike">
                <a:solidFill>
                  <a:srgbClr val="c0504d"/>
                </a:solidFill>
                <a:latin typeface="Times New Roman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ПИФАГОР"/>
          <p:cNvPicPr/>
          <p:nvPr/>
        </p:nvPicPr>
        <p:blipFill>
          <a:blip r:embed="rId1"/>
          <a:stretch/>
        </p:blipFill>
        <p:spPr>
          <a:xfrm>
            <a:off x="250920" y="1413000"/>
            <a:ext cx="3457440" cy="4103640"/>
          </a:xfrm>
          <a:prstGeom prst="rect">
            <a:avLst/>
          </a:prstGeom>
          <a:ln w="38160">
            <a:solidFill>
              <a:srgbClr val="0099ff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rcRect l="0" t="5861" r="4491" b="5518"/>
          <a:stretch/>
        </p:blipFill>
        <p:spPr>
          <a:xfrm>
            <a:off x="0" y="0"/>
            <a:ext cx="885348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rcRect l="4101" t="3661" r="4491" b="4053"/>
          <a:stretch/>
        </p:blipFill>
        <p:spPr>
          <a:xfrm>
            <a:off x="357120" y="0"/>
            <a:ext cx="8491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rcRect l="6588" t="4396" r="2150" b="4053"/>
          <a:stretch/>
        </p:blipFill>
        <p:spPr>
          <a:xfrm>
            <a:off x="285840" y="50760"/>
            <a:ext cx="848196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2" descr=""/>
          <p:cNvPicPr/>
          <p:nvPr/>
        </p:nvPicPr>
        <p:blipFill>
          <a:blip r:embed="rId1"/>
          <a:srcRect l="0" t="3661" r="1562" b="40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19641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37732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4489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 flipH="1" flipV="1" rot="2569200">
            <a:off x="3834720" y="3470760"/>
            <a:ext cx="286920" cy="287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621600" y="30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003640" y="2286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17"/>
          <p:cNvSpPr/>
          <p:nvPr/>
        </p:nvSpPr>
        <p:spPr>
          <a:xfrm>
            <a:off x="3995640" y="3429000"/>
            <a:ext cx="1495440" cy="1554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18"/>
          <p:cNvSpPr/>
          <p:nvPr/>
        </p:nvSpPr>
        <p:spPr>
          <a:xfrm>
            <a:off x="2322360" y="2031840"/>
            <a:ext cx="3168720" cy="295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3924360" y="4797360"/>
            <a:ext cx="14436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1"/>
          <p:cNvSpPr/>
          <p:nvPr/>
        </p:nvSpPr>
        <p:spPr>
          <a:xfrm flipH="1" flipV="1">
            <a:off x="5292360" y="3357360"/>
            <a:ext cx="2890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оугольник 18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3. 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Найдите   угол   А и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7"/>
          <p:cNvSpPr/>
          <p:nvPr/>
        </p:nvSpPr>
        <p:spPr>
          <a:xfrm>
            <a:off x="2931840" y="42861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9641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37732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4489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11"/>
          <p:cNvSpPr/>
          <p:nvPr/>
        </p:nvSpPr>
        <p:spPr>
          <a:xfrm flipH="1" flipV="1" rot="2569200">
            <a:off x="3834720" y="3470760"/>
            <a:ext cx="286920" cy="287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621600" y="30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4929120" y="2286000"/>
            <a:ext cx="6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3995640" y="3429000"/>
            <a:ext cx="1495440" cy="1554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8"/>
          <p:cNvSpPr/>
          <p:nvPr/>
        </p:nvSpPr>
        <p:spPr>
          <a:xfrm>
            <a:off x="2357280" y="2000160"/>
            <a:ext cx="3133800" cy="2984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3924360" y="4797360"/>
            <a:ext cx="14436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 flipH="1" flipV="1">
            <a:off x="5292360" y="3357360"/>
            <a:ext cx="2890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3. 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Найдите   угол   А и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9"/>
          <p:cNvSpPr/>
          <p:nvPr/>
        </p:nvSpPr>
        <p:spPr>
          <a:xfrm>
            <a:off x="0" y="5286240"/>
            <a:ext cx="9144000" cy="1556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Times New Roman"/>
              </a:rPr>
              <a:t>Следствие 2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: Острый угол в равнобедренном прямоугольн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реугольнике равен 45</a:t>
            </a: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0"/>
          <p:cNvSpPr/>
          <p:nvPr/>
        </p:nvSpPr>
        <p:spPr>
          <a:xfrm>
            <a:off x="943920" y="2000160"/>
            <a:ext cx="28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⁰ : 2 = 45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2643120" y="4500720"/>
            <a:ext cx="6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3. 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йдите  углы равностороннего треуголь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34680" y="3821760"/>
            <a:ext cx="2919600" cy="16430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ая соединительная линия 11"/>
          <p:cNvSpPr/>
          <p:nvPr/>
        </p:nvSpPr>
        <p:spPr>
          <a:xfrm>
            <a:off x="3143160" y="3786120"/>
            <a:ext cx="263520" cy="19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15"/>
          <p:cNvSpPr/>
          <p:nvPr/>
        </p:nvSpPr>
        <p:spPr>
          <a:xfrm>
            <a:off x="4786200" y="6143760"/>
            <a:ext cx="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19"/>
          <p:cNvSpPr/>
          <p:nvPr/>
        </p:nvSpPr>
        <p:spPr>
          <a:xfrm flipH="1">
            <a:off x="6143400" y="3786120"/>
            <a:ext cx="28548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2360160" y="5500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4572000" y="157176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6860880" y="5572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34381" t="31826" r="50418" b="55157"/>
          <a:stretch/>
        </p:blipFill>
        <p:spPr>
          <a:xfrm>
            <a:off x="500040" y="1143000"/>
            <a:ext cx="3857760" cy="185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rcRect l="56073" t="31535" r="27976" b="51339"/>
          <a:stretch/>
        </p:blipFill>
        <p:spPr>
          <a:xfrm>
            <a:off x="4500720" y="1000080"/>
            <a:ext cx="37861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3"/>
          <a:srcRect l="31847" t="52037" r="47842" b="30359"/>
          <a:stretch/>
        </p:blipFill>
        <p:spPr>
          <a:xfrm>
            <a:off x="285840" y="3857760"/>
            <a:ext cx="4545000" cy="221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4"/>
          <a:srcRect l="56225" t="51393" r="25267" b="27520"/>
          <a:stretch/>
        </p:blipFill>
        <p:spPr>
          <a:xfrm>
            <a:off x="4500720" y="3643200"/>
            <a:ext cx="4286160" cy="2746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7"/>
          <p:cNvSpPr/>
          <p:nvPr/>
        </p:nvSpPr>
        <p:spPr>
          <a:xfrm>
            <a:off x="7786800" y="185724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6158880" y="2928960"/>
            <a:ext cx="25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Найти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1;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6010200" y="614376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Найти углы АВ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Повторим  изучен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7790400" y="4572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3" name="TextBox 15"/>
          <p:cNvSpPr/>
          <p:nvPr/>
        </p:nvSpPr>
        <p:spPr>
          <a:xfrm>
            <a:off x="8220600" y="45720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│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1" descr=""/>
          <p:cNvPicPr/>
          <p:nvPr/>
        </p:nvPicPr>
        <p:blipFill>
          <a:blip r:embed="rId1"/>
          <a:srcRect l="0" t="3661" r="0" b="4053"/>
          <a:stretch/>
        </p:blipFill>
        <p:spPr>
          <a:xfrm>
            <a:off x="0" y="0"/>
            <a:ext cx="9144000" cy="67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1"/>
          <a:srcRect l="0" t="4396" r="0" b="4053"/>
          <a:stretch/>
        </p:blipFill>
        <p:spPr>
          <a:xfrm>
            <a:off x="0" y="0"/>
            <a:ext cx="897264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5" descr=""/>
          <p:cNvPicPr/>
          <p:nvPr/>
        </p:nvPicPr>
        <p:blipFill>
          <a:blip r:embed="rId1"/>
          <a:srcRect l="0" t="3661" r="0" b="4053"/>
          <a:stretch/>
        </p:blipFill>
        <p:spPr>
          <a:xfrm>
            <a:off x="0" y="0"/>
            <a:ext cx="890280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reeform 2"/>
          <p:cNvSpPr/>
          <p:nvPr/>
        </p:nvSpPr>
        <p:spPr>
          <a:xfrm>
            <a:off x="2556000" y="3357720"/>
            <a:ext cx="361800" cy="11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50920" y="21744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дача №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843280" y="3429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067280" y="189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615636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1116000" y="5229360"/>
            <a:ext cx="65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9"/>
          <p:cNvSpPr/>
          <p:nvPr/>
        </p:nvSpPr>
        <p:spPr>
          <a:xfrm>
            <a:off x="2916360" y="333360"/>
            <a:ext cx="3465360" cy="3024360"/>
          </a:xfrm>
          <a:prstGeom prst="pie">
            <a:avLst/>
          </a:pr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0"/>
          <p:cNvSpPr/>
          <p:nvPr/>
        </p:nvSpPr>
        <p:spPr>
          <a:xfrm>
            <a:off x="1692360" y="3357720"/>
            <a:ext cx="122400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1116000" y="3357720"/>
            <a:ext cx="7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2627280" y="4149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3564000" y="981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5219640" y="2781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1619280" y="551664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числи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rc 23"/>
          <p:cNvSpPr/>
          <p:nvPr/>
        </p:nvSpPr>
        <p:spPr>
          <a:xfrm flipH="1" rot="13552800">
            <a:off x="3652200" y="459360"/>
            <a:ext cx="385920" cy="276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rc 24"/>
          <p:cNvSpPr/>
          <p:nvPr/>
        </p:nvSpPr>
        <p:spPr>
          <a:xfrm rot="13428600">
            <a:off x="2268000" y="3499560"/>
            <a:ext cx="60516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1619280" y="3716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6"/>
          <p:cNvSpPr/>
          <p:nvPr/>
        </p:nvSpPr>
        <p:spPr>
          <a:xfrm>
            <a:off x="226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rc 27"/>
          <p:cNvSpPr/>
          <p:nvPr/>
        </p:nvSpPr>
        <p:spPr>
          <a:xfrm flipH="1">
            <a:off x="5580000" y="2708280"/>
            <a:ext cx="287280" cy="57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4077720" y="5643720"/>
            <a:ext cx="7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&lt; 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1247760" y="4389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50920" y="21744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дача №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5"/>
          <p:cNvSpPr/>
          <p:nvPr/>
        </p:nvSpPr>
        <p:spPr>
          <a:xfrm>
            <a:off x="1692360" y="1484280"/>
            <a:ext cx="3600360" cy="295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2627280" y="4437000"/>
            <a:ext cx="45370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343240" y="7873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5003640" y="4508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1332000" y="5229360"/>
            <a:ext cx="626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714240" y="5572080"/>
            <a:ext cx="33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числи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6372360" y="1413000"/>
            <a:ext cx="25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4727880" y="309420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5663160" y="37418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5"/>
          <p:cNvSpPr/>
          <p:nvPr/>
        </p:nvSpPr>
        <p:spPr>
          <a:xfrm flipV="1">
            <a:off x="5292720" y="1628280"/>
            <a:ext cx="86364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8"/>
          <p:cNvSpPr/>
          <p:nvPr/>
        </p:nvSpPr>
        <p:spPr>
          <a:xfrm>
            <a:off x="5365440" y="17254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2484360" y="1989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1908000" y="3789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1"/>
          <p:cNvSpPr/>
          <p:nvPr/>
        </p:nvSpPr>
        <p:spPr>
          <a:xfrm>
            <a:off x="4356000" y="3789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6732720" y="4508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rc 23"/>
          <p:cNvSpPr/>
          <p:nvPr/>
        </p:nvSpPr>
        <p:spPr>
          <a:xfrm flipV="1" rot="11283000">
            <a:off x="4857120" y="3926520"/>
            <a:ext cx="601560" cy="74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rc 24"/>
          <p:cNvSpPr/>
          <p:nvPr/>
        </p:nvSpPr>
        <p:spPr>
          <a:xfrm>
            <a:off x="5435640" y="4076640"/>
            <a:ext cx="28872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rc 27"/>
          <p:cNvSpPr/>
          <p:nvPr/>
        </p:nvSpPr>
        <p:spPr>
          <a:xfrm flipH="1">
            <a:off x="4643280" y="3933720"/>
            <a:ext cx="216000" cy="50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rc 28"/>
          <p:cNvSpPr/>
          <p:nvPr/>
        </p:nvSpPr>
        <p:spPr>
          <a:xfrm flipV="1">
            <a:off x="2411280" y="1915560"/>
            <a:ext cx="64800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rc 29"/>
          <p:cNvSpPr/>
          <p:nvPr/>
        </p:nvSpPr>
        <p:spPr>
          <a:xfrm>
            <a:off x="1835280" y="4005360"/>
            <a:ext cx="144360" cy="431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4"/>
          <p:cNvSpPr/>
          <p:nvPr/>
        </p:nvSpPr>
        <p:spPr>
          <a:xfrm>
            <a:off x="3335760" y="5572080"/>
            <a:ext cx="50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глы треугольника АВ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два тупых или прямых угла или тупой и прям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5840" y="2071800"/>
          <a:ext cx="8686800" cy="4267080"/>
        </p:xfrm>
        <a:graphic>
          <a:graphicData uri="http://schemas.openxmlformats.org/drawingml/2006/table">
            <a:tbl>
              <a:tblPr/>
              <a:tblGrid>
                <a:gridCol w="2643120"/>
                <a:gridCol w="3071880"/>
                <a:gridCol w="297180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ороны расходя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ороны параллель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ороны расходя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Прямая соединительная линия 5"/>
          <p:cNvSpPr/>
          <p:nvPr/>
        </p:nvSpPr>
        <p:spPr>
          <a:xfrm>
            <a:off x="785880" y="4143240"/>
            <a:ext cx="121428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ая соединительная линия 6"/>
          <p:cNvSpPr/>
          <p:nvPr/>
        </p:nvSpPr>
        <p:spPr>
          <a:xfrm>
            <a:off x="570960" y="2928960"/>
            <a:ext cx="214200" cy="121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ая соединительная линия 7"/>
          <p:cNvSpPr/>
          <p:nvPr/>
        </p:nvSpPr>
        <p:spPr>
          <a:xfrm flipH="1">
            <a:off x="2000160" y="2786040"/>
            <a:ext cx="571680" cy="1357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ая соединительная линия 12"/>
          <p:cNvSpPr/>
          <p:nvPr/>
        </p:nvSpPr>
        <p:spPr>
          <a:xfrm>
            <a:off x="3571920" y="4000680"/>
            <a:ext cx="128592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ая соединительная линия 13"/>
          <p:cNvSpPr/>
          <p:nvPr/>
        </p:nvSpPr>
        <p:spPr>
          <a:xfrm flipH="1">
            <a:off x="4857840" y="2428920"/>
            <a:ext cx="1440" cy="1571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ая соединительная линия 15"/>
          <p:cNvSpPr/>
          <p:nvPr/>
        </p:nvSpPr>
        <p:spPr>
          <a:xfrm flipH="1">
            <a:off x="3571920" y="2857680"/>
            <a:ext cx="1440" cy="1143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ая соединительная линия 14"/>
          <p:cNvSpPr/>
          <p:nvPr/>
        </p:nvSpPr>
        <p:spPr>
          <a:xfrm>
            <a:off x="6714360" y="2786040"/>
            <a:ext cx="428760" cy="1071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ая соединительная линия 17"/>
          <p:cNvSpPr/>
          <p:nvPr/>
        </p:nvSpPr>
        <p:spPr>
          <a:xfrm>
            <a:off x="7143840" y="3857760"/>
            <a:ext cx="1000080" cy="1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ая соединительная линия 19"/>
          <p:cNvSpPr/>
          <p:nvPr/>
        </p:nvSpPr>
        <p:spPr>
          <a:xfrm flipV="1">
            <a:off x="8143920" y="2785680"/>
            <a:ext cx="1440" cy="1071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треуголь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14200" y="1357200"/>
          <a:ext cx="8686800" cy="5394600"/>
        </p:xfrm>
        <a:graphic>
          <a:graphicData uri="http://schemas.openxmlformats.org/drawingml/2006/table">
            <a:tbl>
              <a:tblPr/>
              <a:tblGrid>
                <a:gridCol w="2895840"/>
                <a:gridCol w="2895480"/>
                <a:gridCol w="28954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роугольный 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углы остр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поугольный 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ин угол туп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угольный 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ин угол пря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Прямоугольный треугольник 5"/>
          <p:cNvSpPr/>
          <p:nvPr/>
        </p:nvSpPr>
        <p:spPr>
          <a:xfrm>
            <a:off x="3714840" y="5429160"/>
            <a:ext cx="1928880" cy="92880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50"/>
          <p:cNvSpPr/>
          <p:nvPr/>
        </p:nvSpPr>
        <p:spPr>
          <a:xfrm>
            <a:off x="4000680" y="1785960"/>
            <a:ext cx="1447560" cy="838080"/>
          </a:xfrm>
          <a:prstGeom prst="triangle">
            <a:avLst>
              <a:gd name="adj" fmla="val 27046"/>
            </a:avLst>
          </a:prstGeom>
          <a:solidFill>
            <a:srgbClr val="ffff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250"/>
          <p:cNvSpPr/>
          <p:nvPr/>
        </p:nvSpPr>
        <p:spPr>
          <a:xfrm rot="12147000">
            <a:off x="3294000" y="3864960"/>
            <a:ext cx="2408400" cy="608040"/>
          </a:xfrm>
          <a:prstGeom prst="triangle">
            <a:avLst>
              <a:gd name="adj" fmla="val 74778"/>
            </a:avLst>
          </a:prstGeom>
          <a:solidFill>
            <a:srgbClr val="00b050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4"/>
          <p:cNvSpPr/>
          <p:nvPr/>
        </p:nvSpPr>
        <p:spPr>
          <a:xfrm>
            <a:off x="1290240" y="5716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3646440" y="5643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285840" y="571500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2956680" y="1643040"/>
            <a:ext cx="597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   &lt;А : &lt;В : &lt;С = 2 : 3 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&lt;А; &lt;В ;&lt;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8"/>
          <p:cNvSpPr/>
          <p:nvPr/>
        </p:nvSpPr>
        <p:spPr>
          <a:xfrm>
            <a:off x="3723120" y="285840"/>
            <a:ext cx="15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№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2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250"/>
          <p:cNvSpPr/>
          <p:nvPr/>
        </p:nvSpPr>
        <p:spPr>
          <a:xfrm rot="14710800">
            <a:off x="-1158480" y="2644560"/>
            <a:ext cx="4975200" cy="2800080"/>
          </a:xfrm>
          <a:prstGeom prst="triangle">
            <a:avLst>
              <a:gd name="adj" fmla="val 25884"/>
            </a:avLst>
          </a:prstGeom>
          <a:solidFill>
            <a:srgbClr val="ffff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rcRect l="0" t="3661" r="0" b="4053"/>
          <a:stretch/>
        </p:blipFill>
        <p:spPr>
          <a:xfrm>
            <a:off x="0" y="0"/>
            <a:ext cx="890280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rcRect l="0" t="3661" r="0" b="332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сшифруйте ребус, в котором зашифрована тема нашего урок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http://im6-tub.yandex.net/i?id=75008094&amp;tov=6"/>
          <p:cNvPicPr/>
          <p:nvPr/>
        </p:nvPicPr>
        <p:blipFill>
          <a:blip r:embed="rId1"/>
          <a:stretch/>
        </p:blipFill>
        <p:spPr>
          <a:xfrm>
            <a:off x="-6480" y="3279600"/>
            <a:ext cx="2225880" cy="22258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http://pixelbrush.ru/uploads/posts/2013-05/1369197176_02.jpg"/>
          <p:cNvPicPr/>
          <p:nvPr/>
        </p:nvPicPr>
        <p:blipFill>
          <a:blip r:embed="rId2"/>
          <a:stretch/>
        </p:blipFill>
        <p:spPr>
          <a:xfrm>
            <a:off x="2643120" y="3143160"/>
            <a:ext cx="1857600" cy="2214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2147400" y="4500720"/>
            <a:ext cx="6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Рисунок 6" descr="ребус 3"/>
          <p:cNvPicPr/>
          <p:nvPr/>
        </p:nvPicPr>
        <p:blipFill>
          <a:blip r:embed="rId3"/>
          <a:stretch/>
        </p:blipFill>
        <p:spPr>
          <a:xfrm>
            <a:off x="4280040" y="3279600"/>
            <a:ext cx="1657080" cy="1938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 flipH="1">
            <a:off x="4572000" y="4500720"/>
            <a:ext cx="36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500040" y="2643120"/>
            <a:ext cx="15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=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9" descr="0_6615_6fef11ca_L"/>
          <p:cNvPicPr/>
          <p:nvPr/>
        </p:nvPicPr>
        <p:blipFill>
          <a:blip r:embed="rId4"/>
          <a:srcRect l="0" t="0" r="0" b="25330"/>
          <a:stretch/>
        </p:blipFill>
        <p:spPr>
          <a:xfrm>
            <a:off x="5429160" y="3000240"/>
            <a:ext cx="3286080" cy="2357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10"/>
          <p:cNvSpPr/>
          <p:nvPr/>
        </p:nvSpPr>
        <p:spPr>
          <a:xfrm>
            <a:off x="8463600" y="43578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2" descr="D:\флэш карта\1 rkfcc\03a5b123776c.jpg"/>
          <p:cNvPicPr/>
          <p:nvPr/>
        </p:nvPicPr>
        <p:blipFill>
          <a:blip r:embed="rId1"/>
          <a:stretch/>
        </p:blipFill>
        <p:spPr>
          <a:xfrm>
            <a:off x="857160" y="1357200"/>
            <a:ext cx="1793880" cy="257184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3071880" y="1857240"/>
            <a:ext cx="5286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.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30 (до внешнего угл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Уметь доказывать теор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.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31 Выделить факт,           о котором не говорили на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223(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227 (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формулировать гипотез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азать теорему о сумме углов треугольни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учиться  применять её при решении задач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2"/>
          <p:cNvSpPr/>
          <p:nvPr/>
        </p:nvSpPr>
        <p:spPr>
          <a:xfrm>
            <a:off x="428760" y="241200"/>
            <a:ext cx="835812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то возил камни? (поднимите синие треугольники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то выполнял свою работу? (поднимите желтые треугольники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то строил храм? (поднимите красные треугольники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Заголовок 1"/>
          <p:cNvSpPr/>
          <p:nvPr/>
        </p:nvSpPr>
        <p:spPr>
          <a:xfrm>
            <a:off x="0" y="2928960"/>
            <a:ext cx="91440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928800"/>
            <a:ext cx="91440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мма углов треугольни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45820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одзаголовок 2"/>
          <p:cNvSpPr/>
          <p:nvPr/>
        </p:nvSpPr>
        <p:spPr>
          <a:xfrm>
            <a:off x="4357800" y="5715000"/>
            <a:ext cx="435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214280" y="4179960"/>
            <a:ext cx="6500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«Легче остановить Солнце. Легче сдвинуть Землю, чем уменьшить сумму углов треугольни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2800" spc="-1" strike="noStrike">
                <a:solidFill>
                  <a:srgbClr val="4a452a"/>
                </a:solidFill>
                <a:latin typeface="Times New Roman"/>
              </a:rPr>
              <a:t>В.Ф. Ког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формулировать гипотез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азать теорему о сумме углов треугольни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учиться  применять её при решении задач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28840" y="1214280"/>
          <a:ext cx="6375240" cy="4643640"/>
        </p:xfrm>
        <a:graphic>
          <a:graphicData uri="http://schemas.openxmlformats.org/drawingml/2006/table">
            <a:tbl>
              <a:tblPr/>
              <a:tblGrid>
                <a:gridCol w="2125440"/>
                <a:gridCol w="2125800"/>
                <a:gridCol w="2124000"/>
              </a:tblGrid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елёный тре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асный тре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 + &lt;2 + &lt;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1" name="TextBox 13"/>
          <p:cNvSpPr/>
          <p:nvPr/>
        </p:nvSpPr>
        <p:spPr>
          <a:xfrm>
            <a:off x="1213920" y="6072120"/>
            <a:ext cx="63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Гипотеза «Сумма углов  треугольника …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 помощью  «отрывания»углов   треугольника можно показать, что сумма углов треугольника равна 180</a:t>
            </a:r>
            <a:r>
              <a:rPr b="1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8400" y="1999800"/>
            <a:ext cx="8072280" cy="3668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 13"/>
          <p:cNvGrpSpPr/>
          <p:nvPr/>
        </p:nvGrpSpPr>
        <p:grpSpPr>
          <a:xfrm>
            <a:off x="639720" y="3523680"/>
            <a:ext cx="2928960" cy="2345760"/>
            <a:chOff x="639720" y="3523680"/>
            <a:chExt cx="2928960" cy="2345760"/>
          </a:xfrm>
        </p:grpSpPr>
        <p:grpSp>
          <p:nvGrpSpPr>
            <p:cNvPr id="85" name="Group 14"/>
            <p:cNvGrpSpPr/>
            <p:nvPr/>
          </p:nvGrpSpPr>
          <p:grpSpPr>
            <a:xfrm>
              <a:off x="639720" y="3679560"/>
              <a:ext cx="2928960" cy="2116080"/>
              <a:chOff x="639720" y="3679560"/>
              <a:chExt cx="2928960" cy="2116080"/>
            </a:xfrm>
          </p:grpSpPr>
          <p:grpSp>
            <p:nvGrpSpPr>
              <p:cNvPr id="86" name="Group 15"/>
              <p:cNvGrpSpPr/>
              <p:nvPr/>
            </p:nvGrpSpPr>
            <p:grpSpPr>
              <a:xfrm>
                <a:off x="639720" y="3679560"/>
                <a:ext cx="2928960" cy="2116080"/>
                <a:chOff x="639720" y="3679560"/>
                <a:chExt cx="2928960" cy="2116080"/>
              </a:xfrm>
            </p:grpSpPr>
            <p:grpSp>
              <p:nvGrpSpPr>
                <p:cNvPr id="87" name="Group 16"/>
                <p:cNvGrpSpPr/>
                <p:nvPr/>
              </p:nvGrpSpPr>
              <p:grpSpPr>
                <a:xfrm>
                  <a:off x="639720" y="4350960"/>
                  <a:ext cx="1698840" cy="1276920"/>
                  <a:chOff x="639720" y="4350960"/>
                  <a:chExt cx="1698840" cy="1276920"/>
                </a:xfrm>
              </p:grpSpPr>
              <p:sp>
                <p:nvSpPr>
                  <p:cNvPr id="88" name="Line 17"/>
                  <p:cNvSpPr/>
                  <p:nvPr/>
                </p:nvSpPr>
                <p:spPr>
                  <a:xfrm flipH="1" flipV="1">
                    <a:off x="639720" y="5380560"/>
                    <a:ext cx="1465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Line 18"/>
                  <p:cNvSpPr/>
                  <p:nvPr/>
                </p:nvSpPr>
                <p:spPr>
                  <a:xfrm flipV="1">
                    <a:off x="639720" y="4529880"/>
                    <a:ext cx="676800" cy="85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9"/>
                  <p:cNvSpPr/>
                  <p:nvPr/>
                </p:nvSpPr>
                <p:spPr>
                  <a:xfrm rot="15297000">
                    <a:off x="1400400" y="4458600"/>
                    <a:ext cx="763920" cy="70452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20"/>
                  <p:cNvSpPr/>
                  <p:nvPr/>
                </p:nvSpPr>
                <p:spPr>
                  <a:xfrm rot="15297000">
                    <a:off x="1862640" y="5159880"/>
                    <a:ext cx="451800" cy="39636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21"/>
                <p:cNvGrpSpPr/>
                <p:nvPr/>
              </p:nvGrpSpPr>
              <p:grpSpPr>
                <a:xfrm>
                  <a:off x="1316880" y="3679560"/>
                  <a:ext cx="1412280" cy="1591560"/>
                  <a:chOff x="1316880" y="3679560"/>
                  <a:chExt cx="1412280" cy="1591560"/>
                </a:xfrm>
              </p:grpSpPr>
              <p:sp>
                <p:nvSpPr>
                  <p:cNvPr id="93" name="Line 22"/>
                  <p:cNvSpPr/>
                  <p:nvPr/>
                </p:nvSpPr>
                <p:spPr>
                  <a:xfrm flipV="1">
                    <a:off x="1316880" y="3679560"/>
                    <a:ext cx="677160" cy="849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Line 23"/>
                  <p:cNvSpPr/>
                  <p:nvPr/>
                </p:nvSpPr>
                <p:spPr>
                  <a:xfrm flipH="1" flipV="1">
                    <a:off x="1993680" y="3679560"/>
                    <a:ext cx="642960" cy="896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24"/>
                  <p:cNvSpPr/>
                  <p:nvPr/>
                </p:nvSpPr>
                <p:spPr>
                  <a:xfrm rot="15297000">
                    <a:off x="1400040" y="4458600"/>
                    <a:ext cx="763560" cy="70416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25"/>
                  <p:cNvSpPr/>
                  <p:nvPr/>
                </p:nvSpPr>
                <p:spPr>
                  <a:xfrm rot="15297000">
                    <a:off x="2243160" y="4574160"/>
                    <a:ext cx="365760" cy="52848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Group 26"/>
                <p:cNvGrpSpPr/>
                <p:nvPr/>
              </p:nvGrpSpPr>
              <p:grpSpPr>
                <a:xfrm>
                  <a:off x="1838520" y="4575600"/>
                  <a:ext cx="1730160" cy="1220040"/>
                  <a:chOff x="1838520" y="4575600"/>
                  <a:chExt cx="1730160" cy="1220040"/>
                </a:xfrm>
              </p:grpSpPr>
              <p:sp>
                <p:nvSpPr>
                  <p:cNvPr id="98" name="Line 27"/>
                  <p:cNvSpPr/>
                  <p:nvPr/>
                </p:nvSpPr>
                <p:spPr>
                  <a:xfrm flipH="1" flipV="1">
                    <a:off x="2104200" y="5587920"/>
                    <a:ext cx="1464480" cy="20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Line 28"/>
                  <p:cNvSpPr/>
                  <p:nvPr/>
                </p:nvSpPr>
                <p:spPr>
                  <a:xfrm flipH="1" flipV="1">
                    <a:off x="2636640" y="4575600"/>
                    <a:ext cx="931680" cy="1220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29"/>
                  <p:cNvSpPr/>
                  <p:nvPr/>
                </p:nvSpPr>
                <p:spPr>
                  <a:xfrm rot="15297000">
                    <a:off x="1862640" y="5159520"/>
                    <a:ext cx="451800" cy="39672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30"/>
                  <p:cNvSpPr/>
                  <p:nvPr/>
                </p:nvSpPr>
                <p:spPr>
                  <a:xfrm rot="15297000">
                    <a:off x="2242800" y="4574160"/>
                    <a:ext cx="365400" cy="52848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2" name="Text Box 31"/>
              <p:cNvSpPr/>
              <p:nvPr/>
            </p:nvSpPr>
            <p:spPr>
              <a:xfrm rot="15297000">
                <a:off x="2018520" y="5023440"/>
                <a:ext cx="520560" cy="54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Text Box 32"/>
            <p:cNvSpPr/>
            <p:nvPr/>
          </p:nvSpPr>
          <p:spPr>
            <a:xfrm rot="15297000">
              <a:off x="2660760" y="5229000"/>
              <a:ext cx="673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33"/>
            <p:cNvSpPr/>
            <p:nvPr/>
          </p:nvSpPr>
          <p:spPr>
            <a:xfrm rot="15297000">
              <a:off x="681840" y="5013720"/>
              <a:ext cx="67500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34"/>
            <p:cNvSpPr/>
            <p:nvPr/>
          </p:nvSpPr>
          <p:spPr>
            <a:xfrm rot="15297000">
              <a:off x="1140120" y="3808440"/>
              <a:ext cx="67392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35"/>
          <p:cNvGrpSpPr/>
          <p:nvPr/>
        </p:nvGrpSpPr>
        <p:grpSpPr>
          <a:xfrm>
            <a:off x="3714480" y="4149720"/>
            <a:ext cx="1112760" cy="1041480"/>
            <a:chOff x="3714480" y="4149720"/>
            <a:chExt cx="1112760" cy="1041480"/>
          </a:xfrm>
        </p:grpSpPr>
        <p:sp>
          <p:nvSpPr>
            <p:cNvPr id="107" name="Line 36"/>
            <p:cNvSpPr/>
            <p:nvPr/>
          </p:nvSpPr>
          <p:spPr>
            <a:xfrm flipV="1">
              <a:off x="3714480" y="4263480"/>
              <a:ext cx="592200" cy="92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37"/>
            <p:cNvSpPr/>
            <p:nvPr/>
          </p:nvSpPr>
          <p:spPr>
            <a:xfrm flipV="1">
              <a:off x="3714840" y="4950360"/>
              <a:ext cx="1044360" cy="24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38"/>
            <p:cNvSpPr/>
            <p:nvPr/>
          </p:nvSpPr>
          <p:spPr>
            <a:xfrm rot="673800">
              <a:off x="4296600" y="4177080"/>
              <a:ext cx="311040" cy="298800"/>
            </a:xfrm>
            <a:prstGeom prst="pi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39"/>
            <p:cNvSpPr/>
            <p:nvPr/>
          </p:nvSpPr>
          <p:spPr>
            <a:xfrm rot="673800">
              <a:off x="4538880" y="4523040"/>
              <a:ext cx="251640" cy="398160"/>
            </a:xfrm>
            <a:prstGeom prst="pi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4500360" y="3588480"/>
            <a:ext cx="1091520" cy="793800"/>
            <a:chOff x="4500360" y="3588480"/>
            <a:chExt cx="1091520" cy="793800"/>
          </a:xfrm>
        </p:grpSpPr>
        <p:sp>
          <p:nvSpPr>
            <p:cNvPr id="112" name="Line 41"/>
            <p:cNvSpPr/>
            <p:nvPr/>
          </p:nvSpPr>
          <p:spPr>
            <a:xfrm flipV="1">
              <a:off x="4519080" y="3588480"/>
              <a:ext cx="595800" cy="50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42"/>
            <p:cNvSpPr/>
            <p:nvPr/>
          </p:nvSpPr>
          <p:spPr>
            <a:xfrm>
              <a:off x="5114880" y="3588480"/>
              <a:ext cx="47700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43"/>
            <p:cNvSpPr/>
            <p:nvPr/>
          </p:nvSpPr>
          <p:spPr>
            <a:xfrm rot="604800">
              <a:off x="4903920" y="4015440"/>
              <a:ext cx="654480" cy="3117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 rot="604800">
              <a:off x="4512600" y="4059360"/>
              <a:ext cx="387360" cy="175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45"/>
          <p:cNvGrpSpPr/>
          <p:nvPr/>
        </p:nvGrpSpPr>
        <p:grpSpPr>
          <a:xfrm>
            <a:off x="4933800" y="4087080"/>
            <a:ext cx="1240920" cy="795960"/>
            <a:chOff x="4933800" y="4087080"/>
            <a:chExt cx="1240920" cy="795960"/>
          </a:xfrm>
        </p:grpSpPr>
        <p:sp>
          <p:nvSpPr>
            <p:cNvPr id="117" name="Line 46"/>
            <p:cNvSpPr/>
            <p:nvPr/>
          </p:nvSpPr>
          <p:spPr>
            <a:xfrm>
              <a:off x="5691960" y="4158720"/>
              <a:ext cx="482760" cy="60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7"/>
            <p:cNvSpPr/>
            <p:nvPr/>
          </p:nvSpPr>
          <p:spPr>
            <a:xfrm flipV="1">
              <a:off x="5260320" y="4762080"/>
              <a:ext cx="914040" cy="12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48"/>
            <p:cNvSpPr/>
            <p:nvPr/>
          </p:nvSpPr>
          <p:spPr>
            <a:xfrm rot="445800">
              <a:off x="4996080" y="4127760"/>
              <a:ext cx="658800" cy="432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49"/>
            <p:cNvSpPr/>
            <p:nvPr/>
          </p:nvSpPr>
          <p:spPr>
            <a:xfrm rot="445800">
              <a:off x="4953240" y="4533480"/>
              <a:ext cx="315720" cy="324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50"/>
          <p:cNvGrpSpPr/>
          <p:nvPr/>
        </p:nvGrpSpPr>
        <p:grpSpPr>
          <a:xfrm>
            <a:off x="6152760" y="3868200"/>
            <a:ext cx="3074040" cy="2066760"/>
            <a:chOff x="6152760" y="3868200"/>
            <a:chExt cx="3074040" cy="2066760"/>
          </a:xfrm>
        </p:grpSpPr>
        <p:grpSp>
          <p:nvGrpSpPr>
            <p:cNvPr id="122" name="Group 51"/>
            <p:cNvGrpSpPr/>
            <p:nvPr/>
          </p:nvGrpSpPr>
          <p:grpSpPr>
            <a:xfrm>
              <a:off x="7799760" y="4384800"/>
              <a:ext cx="1427040" cy="1550160"/>
              <a:chOff x="7799760" y="4384800"/>
              <a:chExt cx="1427040" cy="1550160"/>
            </a:xfrm>
          </p:grpSpPr>
          <p:sp>
            <p:nvSpPr>
              <p:cNvPr id="123" name="Line 52"/>
              <p:cNvSpPr/>
              <p:nvPr/>
            </p:nvSpPr>
            <p:spPr>
              <a:xfrm flipH="1" flipV="1">
                <a:off x="7826400" y="5774040"/>
                <a:ext cx="1260720" cy="9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53"/>
              <p:cNvSpPr/>
              <p:nvPr/>
            </p:nvSpPr>
            <p:spPr>
              <a:xfrm flipH="1" flipV="1">
                <a:off x="7799760" y="4674960"/>
                <a:ext cx="27000" cy="109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Freeform 54"/>
              <p:cNvSpPr/>
              <p:nvPr/>
            </p:nvSpPr>
            <p:spPr>
              <a:xfrm rot="14052600">
                <a:off x="7802640" y="4716000"/>
                <a:ext cx="1073160" cy="5000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55"/>
              <p:cNvSpPr/>
              <p:nvPr/>
            </p:nvSpPr>
            <p:spPr>
              <a:xfrm rot="14052600">
                <a:off x="8609400" y="5454000"/>
                <a:ext cx="635040" cy="2815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Text Box 56"/>
            <p:cNvSpPr/>
            <p:nvPr/>
          </p:nvSpPr>
          <p:spPr>
            <a:xfrm rot="21511800">
              <a:off x="7945920" y="5142240"/>
              <a:ext cx="44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Group 57"/>
            <p:cNvGrpSpPr/>
            <p:nvPr/>
          </p:nvGrpSpPr>
          <p:grpSpPr>
            <a:xfrm>
              <a:off x="6563520" y="3868200"/>
              <a:ext cx="1395000" cy="1972080"/>
              <a:chOff x="6563520" y="3868200"/>
              <a:chExt cx="1395000" cy="1972080"/>
            </a:xfrm>
          </p:grpSpPr>
          <p:sp>
            <p:nvSpPr>
              <p:cNvPr id="129" name="Line 58"/>
              <p:cNvSpPr/>
              <p:nvPr/>
            </p:nvSpPr>
            <p:spPr>
              <a:xfrm>
                <a:off x="7931520" y="4712760"/>
                <a:ext cx="27000" cy="109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59"/>
              <p:cNvSpPr/>
              <p:nvPr/>
            </p:nvSpPr>
            <p:spPr>
              <a:xfrm>
                <a:off x="6872760" y="4824000"/>
                <a:ext cx="1072080" cy="101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60"/>
              <p:cNvSpPr/>
              <p:nvPr/>
            </p:nvSpPr>
            <p:spPr>
              <a:xfrm rot="3253200">
                <a:off x="6842160" y="4199400"/>
                <a:ext cx="1073160" cy="5000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61"/>
              <p:cNvSpPr/>
              <p:nvPr/>
            </p:nvSpPr>
            <p:spPr>
              <a:xfrm rot="3253200">
                <a:off x="6608520" y="4296240"/>
                <a:ext cx="514080" cy="3751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62"/>
            <p:cNvSpPr/>
            <p:nvPr/>
          </p:nvSpPr>
          <p:spPr>
            <a:xfrm rot="21236400">
              <a:off x="7424640" y="4995720"/>
              <a:ext cx="37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Group 63"/>
            <p:cNvGrpSpPr/>
            <p:nvPr/>
          </p:nvGrpSpPr>
          <p:grpSpPr>
            <a:xfrm>
              <a:off x="6152760" y="4515480"/>
              <a:ext cx="1774440" cy="1407240"/>
              <a:chOff x="6152760" y="4515480"/>
              <a:chExt cx="1774440" cy="1407240"/>
            </a:xfrm>
          </p:grpSpPr>
          <p:sp>
            <p:nvSpPr>
              <p:cNvPr id="135" name="Line 64"/>
              <p:cNvSpPr/>
              <p:nvPr/>
            </p:nvSpPr>
            <p:spPr>
              <a:xfrm flipH="1" flipV="1">
                <a:off x="6669000" y="5798880"/>
                <a:ext cx="1258200" cy="12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65"/>
              <p:cNvSpPr/>
              <p:nvPr/>
            </p:nvSpPr>
            <p:spPr>
              <a:xfrm flipH="1" flipV="1">
                <a:off x="6453360" y="4515480"/>
                <a:ext cx="1473480" cy="140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66"/>
              <p:cNvSpPr/>
              <p:nvPr/>
            </p:nvSpPr>
            <p:spPr>
              <a:xfrm rot="14124000">
                <a:off x="6197400" y="5378760"/>
                <a:ext cx="634680" cy="2815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67"/>
              <p:cNvSpPr/>
              <p:nvPr/>
            </p:nvSpPr>
            <p:spPr>
              <a:xfrm rot="14124000">
                <a:off x="6195960" y="4667400"/>
                <a:ext cx="513720" cy="3751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Text Box 68"/>
            <p:cNvSpPr/>
            <p:nvPr/>
          </p:nvSpPr>
          <p:spPr>
            <a:xfrm rot="75000">
              <a:off x="7113600" y="5204520"/>
              <a:ext cx="428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TextBox 59"/>
          <p:cNvSpPr/>
          <p:nvPr/>
        </p:nvSpPr>
        <p:spPr>
          <a:xfrm>
            <a:off x="432360" y="542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60"/>
          <p:cNvSpPr/>
          <p:nvPr/>
        </p:nvSpPr>
        <p:spPr>
          <a:xfrm>
            <a:off x="1789200" y="3071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61"/>
          <p:cNvSpPr/>
          <p:nvPr/>
        </p:nvSpPr>
        <p:spPr>
          <a:xfrm>
            <a:off x="3290040" y="585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62"/>
          <p:cNvSpPr/>
          <p:nvPr/>
        </p:nvSpPr>
        <p:spPr>
          <a:xfrm>
            <a:off x="3718440" y="5214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63"/>
          <p:cNvSpPr/>
          <p:nvPr/>
        </p:nvSpPr>
        <p:spPr>
          <a:xfrm>
            <a:off x="4932720" y="2928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64"/>
          <p:cNvSpPr/>
          <p:nvPr/>
        </p:nvSpPr>
        <p:spPr>
          <a:xfrm>
            <a:off x="5790240" y="485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65"/>
          <p:cNvSpPr/>
          <p:nvPr/>
        </p:nvSpPr>
        <p:spPr>
          <a:xfrm>
            <a:off x="7362000" y="4786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66"/>
          <p:cNvSpPr/>
          <p:nvPr/>
        </p:nvSpPr>
        <p:spPr>
          <a:xfrm>
            <a:off x="6933240" y="5286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Дуга 67"/>
          <p:cNvSpPr/>
          <p:nvPr/>
        </p:nvSpPr>
        <p:spPr>
          <a:xfrm>
            <a:off x="785880" y="5000760"/>
            <a:ext cx="357120" cy="64296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Дуга 68"/>
          <p:cNvSpPr/>
          <p:nvPr/>
        </p:nvSpPr>
        <p:spPr>
          <a:xfrm>
            <a:off x="3786120" y="4714920"/>
            <a:ext cx="500040" cy="5713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Дуга 69"/>
          <p:cNvSpPr/>
          <p:nvPr/>
        </p:nvSpPr>
        <p:spPr>
          <a:xfrm rot="14293800">
            <a:off x="7358040" y="5572080"/>
            <a:ext cx="285840" cy="2858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Дуга 70"/>
          <p:cNvSpPr/>
          <p:nvPr/>
        </p:nvSpPr>
        <p:spPr>
          <a:xfrm rot="11293200">
            <a:off x="1645920" y="4083120"/>
            <a:ext cx="730080" cy="22392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Дуга 71"/>
          <p:cNvSpPr/>
          <p:nvPr/>
        </p:nvSpPr>
        <p:spPr>
          <a:xfrm rot="10046400">
            <a:off x="4790880" y="3668760"/>
            <a:ext cx="1062000" cy="16344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Дуга 72"/>
          <p:cNvSpPr/>
          <p:nvPr/>
        </p:nvSpPr>
        <p:spPr>
          <a:xfrm>
            <a:off x="7929720" y="5500800"/>
            <a:ext cx="357120" cy="35712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Дуга 73"/>
          <p:cNvSpPr/>
          <p:nvPr/>
        </p:nvSpPr>
        <p:spPr>
          <a:xfrm rot="14017200">
            <a:off x="2856960" y="5286240"/>
            <a:ext cx="285840" cy="428760"/>
          </a:xfrm>
          <a:prstGeom prst="pie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Дуга 74"/>
          <p:cNvSpPr/>
          <p:nvPr/>
        </p:nvSpPr>
        <p:spPr>
          <a:xfrm rot="12929400">
            <a:off x="5635440" y="4137120"/>
            <a:ext cx="226800" cy="7826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Дуга 75"/>
          <p:cNvSpPr/>
          <p:nvPr/>
        </p:nvSpPr>
        <p:spPr>
          <a:xfrm rot="18340800">
            <a:off x="7418880" y="5215680"/>
            <a:ext cx="374760" cy="271440"/>
          </a:xfrm>
          <a:prstGeom prst="pie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ными способами, рассматривая разные треугольники, получили, что сумма углов треугольника равна 180</a:t>
            </a:r>
            <a:r>
              <a:rPr b="1" lang="ru-RU" sz="48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0</a:t>
            </a: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5018040" y="128592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0"/>
          <p:cNvSpPr/>
          <p:nvPr/>
        </p:nvSpPr>
        <p:spPr>
          <a:xfrm>
            <a:off x="6041880" y="585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214200" y="0"/>
            <a:ext cx="8713800" cy="1739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Теорема: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умм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углов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треугольника равна 180</a:t>
            </a:r>
            <a:r>
              <a:rPr b="1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5003640" y="12682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∆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9"/>
          <p:cNvSpPr/>
          <p:nvPr/>
        </p:nvSpPr>
        <p:spPr>
          <a:xfrm>
            <a:off x="5000760" y="285768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ельство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8"/>
          <p:cNvSpPr/>
          <p:nvPr/>
        </p:nvSpPr>
        <p:spPr>
          <a:xfrm>
            <a:off x="4938840" y="1857240"/>
            <a:ext cx="42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rcRect l="30502" t="36137" r="46743" b="19921"/>
          <a:stretch/>
        </p:blipFill>
        <p:spPr>
          <a:xfrm>
            <a:off x="214200" y="1785960"/>
            <a:ext cx="4672080" cy="507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ol3</dc:creator>
  <dc:description/>
  <dc:language>en-US</dc:language>
  <cp:lastModifiedBy>uchitelskaya</cp:lastModifiedBy>
  <dcterms:modified xsi:type="dcterms:W3CDTF">2017-02-02T06:20:45Z</dcterms:modified>
  <cp:revision>123</cp:revision>
  <dc:subject/>
  <dc:title>PowerPoint Presentation</dc:title>
</cp:coreProperties>
</file>